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B00-AC11-4685-91CC-CF8DB37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692-8A09-4788-BF79-2F5A7EB9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60A-BB6F-4FB7-9C87-7822A249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C84-1991-42FA-BB96-9071F2DB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2D16-6150-4CD7-AA9B-327157C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3D86-0BE4-4DD6-875E-76F04B4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6A8-B8FC-4338-98D0-DE6EC35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C97C-9C34-4F18-AE33-9EBBAD2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7D8-42EB-4779-B5AD-95B05DC9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607-DE52-4373-83A4-FE67B449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25D5-C6DF-41EF-9146-DC7584A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CE3-9236-4D8F-B42F-9AEF68E4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33B-E7C7-410B-B04A-F263C45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3C86-AE92-46A2-B052-90B2A69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E72-7C2C-47C1-ADDC-1CF6AA29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CD9-E18E-43B0-ADAC-A9EC65FE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D486-A445-4058-89C3-666FBF5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9AFE-0947-4778-93E1-5D0F38A3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2BA3-EE2D-4F14-B7B1-36B16E0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0183-2A77-4192-8FBD-6DD83F5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E2B9-4D1C-43FE-B7C4-909C690B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F2CE-3DA2-4B87-915D-2C8CDBC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2CB-FE4E-4C27-97A0-713FD712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C78D-5000-42C2-8415-DE6A9EB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EDD0-5735-440B-9DB3-015B37B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CB13-C603-457C-A826-44A341B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4270-D100-44E0-A34E-E1C644EF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5134-FF29-4233-B498-357068F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B968-B4C1-49B5-ADAB-60EFB2DC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2EB8-B7F9-4F71-9678-30D8366C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852F-825C-46F7-A299-890A6633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1591-CDB6-4C73-96C3-5B6717F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10A4-E56F-4EFF-80F4-F7045C9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1CD-B7E1-4CE7-ACDA-7B2938A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EB38-790D-43E7-92C2-8D576044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B81B-9D8E-4539-96FF-89A1A0E9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D5BC-AC76-4E25-805B-0CEC0C2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186A-7314-4235-B325-6A364B3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BA61-EAB2-47DA-965A-C369552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4FE0-D3AC-4F93-871D-7FDA1F0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334F-C670-496C-A4D4-1E000C90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EF40-4B71-437C-9A57-38B0CB9C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AA6D-E91B-4221-8C05-6F0FB28B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35340-4674-4BB2-8C67-4F6B6CF9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60F-8637-488B-82F6-39D410A6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4EBC-8644-4E8C-8063-7F940C5B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3DE25-C91B-4187-848E-1AEB5E5E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7958-DF59-46A7-9A2B-4A3680D4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DD09-1959-4560-BD32-DC4E0C3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2131-4FFC-4907-BEC7-87301D2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D88B-32AD-4295-AC7D-22A11E7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A0DA-7435-4349-B289-14C106A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C94E-8BF7-4265-A932-916AA8A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F187-1843-466A-B6E5-0574815B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6ABC-7DD9-4E64-8254-B31F1E2B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065-5098-4933-B0DD-DAD41E78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30CD-E1CD-429A-AE77-57B78CAC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F1340-78DB-4463-8F17-710C0436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676B-CF65-4F12-8426-8B2DC1BA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36EE4-636D-4405-AF44-5DE1CECB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F5A4C-5FC9-4EF2-945E-97EB7C2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C80E-31E3-4713-956F-6FDFC4E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1674-26E7-4945-AE1B-6069B73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4010-8211-4A4A-8F18-40C34DE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444D-C4DC-4192-AF2B-888C806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3D9C-7FE1-42E9-A2C2-57FB6FF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E38-A0D7-4263-9618-739CCBA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60F2-E9AA-4BC8-BF35-C615073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F0C4-5D3B-4277-BEFC-1A6F65EC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6566-B8C5-4BDE-A41D-A6A8A5EE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D2C4-E2F4-4151-BC6B-62175D9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3242-0007-490A-BBB3-26243B7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0F80-B820-439B-A36D-E7EE2E4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3F5FA-6027-4E7E-9392-63FD704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E779-0BF9-44BF-B0D3-CC1DB9E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05E1-6F23-4D86-8649-B76367D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A3BB8-BD58-489D-8066-02F089B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F07-E0A7-43BE-BCB4-13F43B3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28EB-AF69-4CFA-99B1-DFECAE3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C9C8-A5BE-4101-85F3-7B5F178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186D-DCA5-4E56-BA34-DEEF708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B840-E219-48A9-8680-AAFF0775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2F69-0861-4CE7-B6F5-4E567C37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2C8-B71A-451B-8E6F-B81EF49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42D-5877-49F9-ABAE-1A3969E074CA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CA7F-AC91-476E-9017-43692636175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A32-84B2-44CA-809E-D65C33C8D719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147-C2B5-4804-A8C4-7FF37EAF2E7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C214-BF23-4849-A55D-B30D09E22B9C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543D-27A4-475C-94BB-736ABDA7581C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FADF-DD46-4E62-A11D-947A7194F715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By: Bradley Melanson &amp; Derek Spenc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3" descr="gmrobotx-wide-community.jpg"/>
          <p:cNvPicPr/>
          <p:nvPr/>
        </p:nvPicPr>
        <p:blipFill>
          <a:blip r:embed="rId2"/>
          <a:stretch/>
        </p:blipFill>
        <p:spPr>
          <a:xfrm>
            <a:off x="642960" y="357120"/>
            <a:ext cx="3567240" cy="2548080"/>
          </a:xfrm>
          <a:prstGeom prst="rect">
            <a:avLst/>
          </a:prstGeom>
          <a:ln w="0">
            <a:noFill/>
          </a:ln>
        </p:spPr>
      </p:pic>
      <p:sp>
        <p:nvSpPr>
          <p:cNvPr id="306" name="Rectangular Callout 4"/>
          <p:cNvSpPr/>
          <p:nvPr/>
        </p:nvSpPr>
        <p:spPr>
          <a:xfrm>
            <a:off x="2214720" y="214200"/>
            <a:ext cx="1143000" cy="5000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rbel"/>
              </a:rPr>
              <a:t>Wel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" dur="3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500040" y="178596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	</a:t>
            </a:r>
            <a:r>
              <a:rPr b="0" i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General Inform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Dictionary Definition of Robot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1) a machine that resembles a human and does mechanical, routine takes on comma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rigin: Czech, coined by Karel Capek in the play R.U.R. (1920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robots_z.jpg"/>
          <p:cNvPicPr/>
          <p:nvPr/>
        </p:nvPicPr>
        <p:blipFill>
          <a:blip r:embed="rId2"/>
          <a:stretch/>
        </p:blipFill>
        <p:spPr>
          <a:xfrm>
            <a:off x="5643720" y="4429080"/>
            <a:ext cx="31003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3"/>
          <p:cNvSpPr/>
          <p:nvPr/>
        </p:nvSpPr>
        <p:spPr>
          <a:xfrm>
            <a:off x="0" y="1357200"/>
            <a:ext cx="9072720" cy="5500800"/>
          </a:xfrm>
          <a:prstGeom prst="rtTriangle">
            <a:avLst/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SC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Corbel"/>
              </a:rPr>
              <a:t>ARA: Selective Compliant Assembly Robot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The SCARA was des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igned in 1981 by Sankyo Seiki under the guidance of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Hiroshi Makino.  The SCA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RA was designed for packaging food and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repetitive car assembly. The ro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bot itself was designed to resemble a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human arm both in looks and mov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ement as to reach confined areas in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safety. The designed in on a single pede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stal mount and faster than the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riginal Cartesian System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4" descr="Images_Photos_pCobraAIB600.gif"/>
          <p:cNvPicPr/>
          <p:nvPr/>
        </p:nvPicPr>
        <p:blipFill>
          <a:blip r:embed="rId2"/>
          <a:stretch/>
        </p:blipFill>
        <p:spPr>
          <a:xfrm>
            <a:off x="1071720" y="4857840"/>
            <a:ext cx="2000160" cy="18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Images_Photos_pCobraAIB600.gif"/>
          <p:cNvPicPr/>
          <p:nvPr/>
        </p:nvPicPr>
        <p:blipFill>
          <a:blip r:embed="rId3"/>
          <a:stretch/>
        </p:blipFill>
        <p:spPr>
          <a:xfrm>
            <a:off x="4929120" y="0"/>
            <a:ext cx="254340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lowchart: Extract 3"/>
          <p:cNvSpPr/>
          <p:nvPr/>
        </p:nvSpPr>
        <p:spPr>
          <a:xfrm>
            <a:off x="0" y="1428840"/>
            <a:ext cx="9144000" cy="5429160"/>
          </a:xfrm>
          <a:prstGeom prst="flowChartExtract">
            <a:avLst/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85840" y="171468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 Russian Camera Equipm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nt Com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ny Filmotechnic.The Rainbow Camera Car Mount is a camera pl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form that e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bles the camera to move 60 degrees around the vehicle. This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r mount is m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 from lightweight carbon fibre and is mounted to the front of t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e vehicle. The cam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 used for this mount is capable of wireless use and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used a special gyro stabili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zed remote. Since the camera is used on moving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vehicles it must have image 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bilizers so that the picture received isn't blu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red or unbalan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- This car mount is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rainbow camera 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mount but is a lesser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 the arc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ar_mounts_projects_resize_104.JPG"/>
          <p:cNvPicPr/>
          <p:nvPr/>
        </p:nvPicPr>
        <p:blipFill>
          <a:blip r:embed="rId2"/>
          <a:stretch/>
        </p:blipFill>
        <p:spPr>
          <a:xfrm>
            <a:off x="4500720" y="3786120"/>
            <a:ext cx="425736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6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-Shape 4"/>
          <p:cNvSpPr/>
          <p:nvPr/>
        </p:nvSpPr>
        <p:spPr>
          <a:xfrm>
            <a:off x="0" y="1428840"/>
            <a:ext cx="3571920" cy="5429160"/>
          </a:xfrm>
          <a:custGeom>
            <a:avLst/>
            <a:gdLst>
              <a:gd name="textAreaLeft" fmla="*/ 0 w 3571920"/>
              <a:gd name="textAreaRight" fmla="*/ 1785960 w 3571920"/>
              <a:gd name="textAreaTop" fmla="*/ 0 h 5429160"/>
              <a:gd name="textAreaBottom" fmla="*/ 5429160 h 5429160"/>
            </a:gdLst>
            <a:ahLst/>
            <a:rect l="textAreaLeft" t="textAreaTop" r="textAreaRight" b="textAreaBottom"/>
            <a:pathLst>
              <a:path w="3571875" h="5429250">
                <a:moveTo>
                  <a:pt x="0" y="0"/>
                </a:moveTo>
                <a:lnTo>
                  <a:pt x="1785938" y="0"/>
                </a:lnTo>
                <a:lnTo>
                  <a:pt x="1785938" y="3643313"/>
                </a:lnTo>
                <a:lnTo>
                  <a:pt x="3571875" y="3643313"/>
                </a:lnTo>
                <a:lnTo>
                  <a:pt x="3571875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R2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R2 was 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created by GM, General Motors, and NASA. It was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develo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ed at the Johnson Space Center in Houston. The R2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unit ca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 lift 20 pounds per arm which is stated to be 4 times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what o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ther humanoid robots can lift. It has movable arms,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fingers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, and hands which also comes with opposable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thumb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s. R2 was made with the intension of further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explor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ation into outer space with less danger to astronau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5" descr="422804_medNASA_R2_610x406.jpg"/>
          <p:cNvPicPr/>
          <p:nvPr/>
        </p:nvPicPr>
        <p:blipFill>
          <a:blip r:embed="rId2"/>
          <a:stretch/>
        </p:blipFill>
        <p:spPr>
          <a:xfrm>
            <a:off x="5829480" y="0"/>
            <a:ext cx="3314520" cy="2143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1-nasagmcreate.jpg"/>
          <p:cNvPicPr/>
          <p:nvPr/>
        </p:nvPicPr>
        <p:blipFill>
          <a:blip r:embed="rId3"/>
          <a:stretch/>
        </p:blipFill>
        <p:spPr>
          <a:xfrm>
            <a:off x="4357800" y="5000760"/>
            <a:ext cx="285732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57 -0.06847 C -0.62829 -0.1115 -0.43802 -0.15452 -0.40746 -0.05228 C -0.37673 0.04996 -0.6434 0.40689 -0.63541 0.54545 C -0.62743 0.68401 -0.45329 0.78232 -0.35972 0.77955 C -0.26614 0.77677 -0.13229 0.65857 -0.07361 0.52926 C -0.01527 0.39995 -0.05763 0.08813 -0.00833 0.0037 C 0.04098 -0.08073 0.21962 0.02012 0.22257 0.02244 C 0.22535 0.02475 0.04653 0.02105 0.00938 0.01735 C -0.02743 0.01365 -0.01371 0.00671 -4.16667E-006 3.96715E-006 E">
                                      <p:cBhvr>
                                        <p:cTn id="11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http://news.cnet.com/8301-17912_3-10447375-72.html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filmotechnic.com/eng/equipment/57.html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en.wikipedia.org/wiki/SCARA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www.allaboutmotion.com/images/adept/Images_Photos_pCobraAIB600.gif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www.yamaha-motor.co.jp/global/news/2005/07/21/img/ykseries/pic_001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bob-cam.com/stefanbastian/image/project/car_mounts_projects_resize_104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news.cnet.com/i/bto/20100204/422804_medNASA_R2_610x406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cnelms.files.wordpress.com/2008/04/robots_z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en.wikipedia.org/wiki/Robo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dictionary.reference.com/browse/robo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3" descr=""/>
          <p:cNvPicPr/>
          <p:nvPr/>
        </p:nvPicPr>
        <p:blipFill>
          <a:blip r:embed="rId1"/>
          <a:stretch/>
        </p:blipFill>
        <p:spPr>
          <a:xfrm>
            <a:off x="2724120" y="1755720"/>
            <a:ext cx="2255760" cy="20304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4" descr=""/>
          <p:cNvPicPr/>
          <p:nvPr/>
        </p:nvPicPr>
        <p:blipFill>
          <a:blip r:embed="rId2"/>
          <a:stretch/>
        </p:blipFill>
        <p:spPr>
          <a:xfrm>
            <a:off x="2382840" y="1547640"/>
            <a:ext cx="5608800" cy="456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0:55:43Z</dcterms:created>
  <dc:creator>Joseph Spencer</dc:creator>
  <dc:description/>
  <dc:language>en-US</dc:language>
  <cp:lastModifiedBy>Joseph Spencer</cp:lastModifiedBy>
  <dcterms:modified xsi:type="dcterms:W3CDTF">2010-02-08T05:10:25Z</dcterms:modified>
  <cp:revision>31</cp:revision>
  <dc:subject/>
  <dc:title>Robotics</dc:title>
</cp:coreProperties>
</file>